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95983-F841-4678-958E-6830C8BAB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0793-E573-46A4-9B4E-941DE54E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3F509-9DBB-4AF8-8FA5-C4408F53A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73F64-612C-4B79-BF84-0ED38AF21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A8B3-14C8-43E4-9267-AFAE4CB1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1B0E8-A7D4-41E5-9901-BD1A434E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B0CC-65DD-433E-B8B1-29CB3081F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B27E-DCF9-4276-8A0E-EA94F2DEC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257AD-E199-4EE9-BEF2-E1470099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BB66-6ACC-4D5B-96DD-9EC6E4D5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74B4-359C-49A0-B2ED-7AF7A9FD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0E37-C054-4E92-B216-4455B1D8B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27D3-76A2-4994-BEC0-2E39C9C9793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Tropical Rainforest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Dammin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provide power for industries such as the mines and papermills, large dam schemes have been introduc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this is the Tucurui Dam in the Northern Brazilian rainfor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ervoir it created flooded an area of 2875 square kilometres and displaced 40,000 peop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stroyed hundreds of species of animals and thousands of species of plants, some of which may never have actually been known abo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Subsistence Farming:</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itial growth into the rainforests was along roads that were cut through the dense vegetatio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encouraged people looking for a better way of life to enter the forest and clear areas beside the roads for farm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presumed that because the rainforest was so rich with life, the soil would be very fertil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ortunately that is not the case, and within a few years the farmers were forced to move on because the soil had become so bad.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being able to afford to go back to the cities on the Eastern coasts, most of these farmers end up copping down another area of forest and starting again.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ortunately the results are equally predict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Min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rthern Amazon rainforest is rich in minerals, such as bauxite, iron ore and even some go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has meant that vast areas of rainforest have been cleared to allow mining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lements have grown up, such as Carajas and Manaus purely based on the mining indus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tropical rainforest ecosystem is located in a band 5 either side of the equato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means that it is hot throughout the year, with temperatures ranging between 25 and 30°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also is a massive level of precipitation, usually between 2000 and 3000mm each yea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ost afternoons experience a heavy downpour, which helps to keep the rainforest mois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inforest soils are called </a:t>
            </a:r>
            <a:r>
              <a:rPr b="1" lang="en-US" sz="2800" spc="-1" strike="noStrike">
                <a:solidFill>
                  <a:srgbClr val="000000"/>
                </a:solidFill>
                <a:latin typeface="Calibri"/>
              </a:rPr>
              <a:t>latsol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have a very thick litter layer, which decomposes rapidly in the hot, moist conditions to create thick humus, full of nutri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oduces a soil, which acts as if it is very ferti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at is not actually the case and if the vegetation is removed the soil quickly becomes very inferti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leaching occurs to remove minerals and nutrients from the humus lay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Vegetation And Animal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opical rainforests boasts a huge variety of vegetation and animal lif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be divided into five simple layers, from the canopy to the forest floor, where you will see distinctive types of veg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p layer is called the </a:t>
            </a:r>
            <a:r>
              <a:rPr b="1" lang="en-US" sz="2700" spc="-1" strike="noStrike">
                <a:solidFill>
                  <a:srgbClr val="000000"/>
                </a:solidFill>
                <a:latin typeface="Calibri"/>
              </a:rPr>
              <a:t>emergent layer</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where a few of the largest trees have managed to grow higher than the main canopy to try to capture as much light and rainwater as possibl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s include mahogany trees. Birds and insects would be expected to be seen in this lay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1" lang="en-US" sz="2700" spc="-1" strike="noStrike">
                <a:solidFill>
                  <a:srgbClr val="000000"/>
                </a:solidFill>
                <a:latin typeface="Calibri"/>
              </a:rPr>
              <a:t>canopy layer</a:t>
            </a:r>
            <a:r>
              <a:rPr b="0" lang="en-US" sz="2700" spc="-1" strike="noStrike">
                <a:solidFill>
                  <a:srgbClr val="000000"/>
                </a:solidFill>
                <a:latin typeface="Calibri"/>
              </a:rPr>
              <a:t> is the layer at approximately 30 metres created by the many tall trees of the rainfores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canopy virtually blocks out all the light for the vegetation below and is the home for birds and monkey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under canopy </a:t>
            </a:r>
            <a:r>
              <a:rPr b="0" lang="en-US" sz="2400" spc="-1" strike="noStrike">
                <a:solidFill>
                  <a:srgbClr val="000000"/>
                </a:solidFill>
                <a:latin typeface="Calibri"/>
              </a:rPr>
              <a:t>is the layer between 10 and 20 metres where there area few trees, but mainly lianas and other vines which hang down from the taller trees that they are using to climb up to the 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shrub layer</a:t>
            </a:r>
            <a:r>
              <a:rPr b="0" lang="en-US" sz="2400" spc="-1" strike="noStrike">
                <a:solidFill>
                  <a:srgbClr val="000000"/>
                </a:solidFill>
                <a:latin typeface="Calibri"/>
              </a:rPr>
              <a:t> is the fourth rainforest lay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plants are between 5 and 10 metres in height and consist of small trees and other plants waiting patiently for a tree fall to create a gap in the canopy to allow them the light to gr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forest floor </a:t>
            </a:r>
            <a:r>
              <a:rPr b="0" lang="en-US" sz="2400" spc="-1" strike="noStrike">
                <a:solidFill>
                  <a:srgbClr val="000000"/>
                </a:solidFill>
                <a:latin typeface="Calibri"/>
              </a:rPr>
              <a:t>is the final layer, where there are ferns and other plants as well as the massive tree roo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such as tapirs, frogs and even alligators inhabit this lay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yer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in driving force in the rainforest vegetation is the fight for ligh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nce when a tree falls, creating a gap in the canopy, there are a number very fast growing species that will have been almost lying dormant that will rapidly grow to try to capture all the available ligh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of the tall trees have wide shallow roots, as the majority of the water and nutrients are found in the very top layer of the soil.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prevent them from toppling over most of the tall trees have grown large </a:t>
            </a:r>
            <a:r>
              <a:rPr b="1" lang="en-US" sz="2200" spc="-1" strike="noStrike">
                <a:solidFill>
                  <a:srgbClr val="000000"/>
                </a:solidFill>
                <a:latin typeface="Calibri"/>
              </a:rPr>
              <a:t>buttress roots</a:t>
            </a:r>
            <a:r>
              <a:rPr b="0" lang="en-US" sz="2200" spc="-1" strike="noStrike">
                <a:solidFill>
                  <a:srgbClr val="000000"/>
                </a:solidFill>
                <a:latin typeface="Calibri"/>
              </a:rPr>
              <a:t>, which act as stabiliser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inforest trees have straight trunks, with their leaves and branches concentrated right at the top to enable them to make best use of all the available ligh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Logging:</a:t>
            </a:r>
            <a:r>
              <a:rPr b="0" lang="en-US" sz="3100" spc="-1" strike="noStrike">
                <a:solidFill>
                  <a:srgbClr val="000000"/>
                </a:solidFill>
                <a:latin typeface="Calibri"/>
              </a:rPr>
              <a: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ainforest trees are mainly hardwood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can be very lucrative on the international market and as many of the countries of the world with tropical rainforests in them are LEDC's, it is a market that they often exploi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fortunately, to get to certain types of tree, logging companies destroy all the other vegetation around them.</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uman Uses Of Rainfores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Ranch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cale forest clearance has taken place to make way for huge cattle ranches, as these are also a lucrative industry for the count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tle quickly erode the fragile, and now unprotected, so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s are not interested in the wood for sale, they often just bur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8T00:55:27Z</dcterms:created>
  <dc:creator>Dell_02</dc:creator>
  <dc:description/>
  <dc:language>en-US</dc:language>
  <cp:lastModifiedBy>Dell_02</cp:lastModifiedBy>
  <dcterms:modified xsi:type="dcterms:W3CDTF">2011-01-28T01:12:46Z</dcterms:modified>
  <cp:revision>2</cp:revision>
  <dc:subject/>
  <dc:title>Tropical Rainforests</dc:title>
</cp:coreProperties>
</file>